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86A-2DE0-4E7C-8F02-5561F550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9E5-5699-43DD-B876-B5EFDAF8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1EE-E4AD-4510-BA35-ACBA95E9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496-C682-4262-8D3B-33F89A73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0DE6-B1DD-4AA6-9607-AC125522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E3BD-35FA-4DA0-9352-D36F0062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575F-6B65-4A32-A991-7B3024D7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51BF-66BA-4981-AEE7-149B1B21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D5AB-267C-48CE-A753-48E0AF23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6E8F-21FC-4364-8C66-406EE112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AB65-4B33-480D-A760-C2B6EB9C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AD6-5ECE-43BD-B3D0-90127B67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BB82-17D7-4507-B653-0095C341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E64C-9318-407C-8DB5-B8EB3317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F1C-D9CF-4B5F-B415-5A9A2E52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745B-2563-4F35-AC3F-285DCFBA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79CC-9F38-4997-9765-84FBC288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8CD-3415-41AA-AA36-4E027F2E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319-34D9-44E2-A404-C0D62FBE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01C-E442-47E9-B95C-30B95C49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8A0-C49A-494D-AFD8-1DCBCAE5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396-A274-4832-AD10-3B9420A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0F4-DED2-455F-BA2D-E67121B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6DB-1737-4DCA-BC21-F4C9DD8B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9E1E-58A8-4692-B147-EB3E87E2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BF40-D2CB-48E1-9D28-63F84B29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разовательная среда образовательного учреждения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Творческие способности для нас – это 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расположенность к творчеству, свойства, присущие каждому без исключения человеку от рождения и развиваемые в процессе становления лич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ыготский Л.С., Э. Фромм, Я.А. Пономарев,  К. и Н. Роджерс, Л.А. Большакова, О,И. Мотков, А.И.Савенков, А.Лоб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Образовательная среда для нас – это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ая сфера всех субъектов образования (педагога, ребёнка, родителя), в которой каждый из них одновременно и её творец и проду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возможностей и жизненных шан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.Т. Шацкий, Е.А. Климов, Г.А. Ковалёв, А.Н.Тубельский, В.А. Ясв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образовательной сред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25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ющие на развитие инициативы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овых (творческих) способностей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ранственно-предмет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здания, размер и пространственная структура внутренних помещений, лёгкость пространственной трансформации при возникшей необходимости, возможность и широта пространственных перемещений 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условия жизни (помещения, мебель, оборудование, пособ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, гигиенические условия (микроклимат, чистота, безопас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часть (правила внутреннего распорядка, устав, законы, средства наглядности, рекламы, любые идеи, выраженные в той или иной форме, требования, приказы, советы, пожелания, поручения, сообщения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ическая часть (здоровье, самочувст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че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, приёмы,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ая и социальная плотность, степень скученности и его влияния на социальное поведение, личностные особенности педагогов и воспитанников, распределение статусов и ролей, половозрастные и национальные особенн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пример окружающих, их культура, опыт, образ жизни, деятельность, поведение, взаимоотнош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, организации, группы и их представители, с которыми приходится реально взаимодейств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тройство» группы (своей) и коллективов, с которыми контактирует человек (наличие выделившихся по тем или иным основаниям «лидеров», преуспевающих», «звёзд», отстающих, «отверженных» и т.д.); реальное место человека в данной группе, включённость его в другие группы группировки, уровень его защищённости от различного рода посяга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Типы образовательной среды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902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бщие диагностические вопросы для определения типа образовательной сред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Свобода – зависим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Чьи интересы и ценности ставятся на первое место в данной образовательной сред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личности или общества (группы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то к кому подстраивается в процессе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воспитатель к ребенку или ребенок к воспита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ая форма воспитания преимущественно осуществляется в данной образовательной среде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 или коллективная (групповая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сь «Активность – пассив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актикуется ли в данной образовательной среде какое-либо наказание ребен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тимулируется ли в данной образовательной среде проявление ребенком  инициатив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Находят ли какой-либо положительный отклик в данной образовательной среде те или иные творческие проявления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а/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Параметры образовательной среды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минант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анной лока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истеме ценнос­тей субъек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го процесса. Доминантность описывает образовательную среду по критер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значимое — незначимое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нсив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насыщ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разовательной среды условиями, влияниями и возможностями, а такж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центр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х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герентность (согласованность)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армоничность -негармоничность»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о показате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и согласова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сех локальных образовательных сред, функциональным субъектом которых выступает данная 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обильность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ность 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чным эволюционны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­ния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контексте взаимоотношений со средой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общенн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пень координ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ятельности всех субъектов данной образователь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ознаваемость образовательной сред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ат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нательной включё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ё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ех субъект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активность образовательной сре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тепень е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ияния на среду обит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стойчивость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бильность во време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Широта образовательной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епен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ен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ую образовательную сре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, объектов, процессов и явл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и их многообраз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моциональность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н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моционального и рациональ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мпон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1T05:01:2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